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39C-0A12-4DB8-9F4B-F33EC115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09E-E230-4C03-8AC4-5CF04086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22D-6C6B-462A-880A-C7590AF7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A6F-6D54-4AD7-AD07-ED741E60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624-7AA1-41BF-8A5C-34247973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6A6-42F7-4B75-9862-D26C95C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266-B78E-4783-AE06-E5254FFB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460-096B-4C5C-BEA0-F9A5F504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2F0-8600-460E-B29E-74C236EF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163-D4D5-4EF6-93F3-C3A3DE7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7D0-9342-4350-9871-5AAA4AB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F77-CA83-4A6D-8703-C728682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2367-955E-4F98-87EE-D6C0DF002C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ecture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S, RS and G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37560" cy="6048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8785080" cy="658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8928000" cy="669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8988480" cy="6742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8" name="Rectangle 2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"/>
              <p:cNvSpPr/>
              <p:nvPr/>
            </p:nvSpPr>
            <p:spPr>
              <a:xfrm>
                <a:off x="0" y="6351480"/>
                <a:ext cx="9144000" cy="0"/>
              </a:xfrm>
              <a:prstGeom prst="line">
                <a:avLst/>
              </a:prstGeom>
              <a:ln w="2844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0" y="722160"/>
                <a:ext cx="91440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" name="Picture 15" descr="http://thumbs.dreamstime.com/z/bangladesh-outline-map-4577116.jpg"/>
            <p:cNvPicPr/>
            <p:nvPr/>
          </p:nvPicPr>
          <p:blipFill>
            <a:blip r:embed="rId2">
              <a:lum bright="20000"/>
            </a:blip>
            <a:srcRect l="13462" t="4747" r="20929" b="6867"/>
            <a:stretch/>
          </p:blipFill>
          <p:spPr>
            <a:xfrm>
              <a:off x="3722760" y="2565000"/>
              <a:ext cx="1682640" cy="24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9"/>
          <p:cNvSpPr/>
          <p:nvPr/>
        </p:nvSpPr>
        <p:spPr>
          <a:xfrm>
            <a:off x="571680" y="114300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EMOTE SEN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mote sensing is the art and science of making measurements of the earth using sensors on airplanes or satelli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se sensors collect data in the form of images and provide specialized capabilities for manipulating, analyzing, and visualizing those images. Remote sensed imagery is integrated within a G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79280" y="131760"/>
            <a:ext cx="8804520" cy="6610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02640" cy="64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3480" y="260280"/>
            <a:ext cx="8958240" cy="619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42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64880" cy="6742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9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70" name="Rectangle 2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4"/>
              <p:cNvSpPr/>
              <p:nvPr/>
            </p:nvSpPr>
            <p:spPr>
              <a:xfrm>
                <a:off x="0" y="6351480"/>
                <a:ext cx="9144000" cy="0"/>
              </a:xfrm>
              <a:prstGeom prst="line">
                <a:avLst/>
              </a:prstGeom>
              <a:ln w="2844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5"/>
              <p:cNvSpPr/>
              <p:nvPr/>
            </p:nvSpPr>
            <p:spPr>
              <a:xfrm>
                <a:off x="201600" y="6332400"/>
                <a:ext cx="5943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4d"/>
                    </a:solidFill>
                    <a:latin typeface="Verdana"/>
                  </a:rPr>
                  <a:t>Department of Environmental Science and Manag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4d"/>
                    </a:solidFill>
                    <a:latin typeface="Verdana"/>
                  </a:rPr>
                  <a:t>North South Univers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6"/>
              <p:cNvSpPr/>
              <p:nvPr/>
            </p:nvSpPr>
            <p:spPr>
              <a:xfrm>
                <a:off x="6705720" y="6442200"/>
                <a:ext cx="243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4d"/>
                    </a:solidFill>
                    <a:latin typeface="Verdana"/>
                  </a:rPr>
                  <a:t>Course No. ENV 2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7"/>
              <p:cNvSpPr/>
              <p:nvPr/>
            </p:nvSpPr>
            <p:spPr>
              <a:xfrm>
                <a:off x="0" y="722160"/>
                <a:ext cx="91440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5" name="Picture 15" descr="http://thumbs.dreamstime.com/z/bangladesh-outline-map-4577116.jpg"/>
            <p:cNvPicPr/>
            <p:nvPr/>
          </p:nvPicPr>
          <p:blipFill>
            <a:blip r:embed="rId2">
              <a:lum bright="20000"/>
            </a:blip>
            <a:srcRect l="13462" t="4747" r="20929" b="6867"/>
            <a:stretch/>
          </p:blipFill>
          <p:spPr>
            <a:xfrm>
              <a:off x="3722760" y="2565000"/>
              <a:ext cx="1682640" cy="24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Box 13"/>
          <p:cNvSpPr/>
          <p:nvPr/>
        </p:nvSpPr>
        <p:spPr>
          <a:xfrm>
            <a:off x="325440" y="3419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cc0000"/>
                </a:solidFill>
                <a:latin typeface="Verdana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8832960" cy="662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8880480" cy="6661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777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712000" cy="653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08000" y="81000"/>
            <a:ext cx="9036000" cy="6777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9:47:48Z</dcterms:created>
  <dc:creator/>
  <dc:description/>
  <dc:language>en-US</dc:language>
  <cp:lastModifiedBy>Islam</cp:lastModifiedBy>
  <dcterms:modified xsi:type="dcterms:W3CDTF">2025-01-23T15:26:34Z</dcterms:modified>
  <cp:revision>168</cp:revision>
  <dc:subject/>
  <dc:title>Slide 1</dc:title>
</cp:coreProperties>
</file>